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B5F0-D59A-4A09-BBBF-EB54E7E70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3C9F-60FD-43F5-8C99-8659BD3A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11E-EFB1-4D89-A579-5E42D083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784-BEE6-4DCC-87E6-0A137641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C2A-EF95-4225-858D-BA195C36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15F-0C09-4D14-9285-81AF77C7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A94-8DC1-417A-9FF3-528FA62D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B4B-BF54-48B0-99E7-5B5A912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FCF-98C3-428B-8B6B-6571186D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4D4-40F2-4EED-BE80-0CC9296E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ED6-547A-4D6F-A951-418C4C01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DD8-9145-4CA7-9DE8-D874F98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2E7-2B5B-4925-9735-4F59E1C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B35-16DB-4C33-A885-0E7EABA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50AC-6077-4929-8C6B-950027D3F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nia Elsanho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nia Elsanho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ania Elsanho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ania. Yo vivo en New York .Tengo 14 años. Yo tengo una hermana y dos hermanos.  Yo soy muy calmad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Super! ¿Monica la maravillosa y Christy la lo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ueden ir a comer helado?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Buenos dias! ¡Yo quiero ir a comer helado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Nos vem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blamos luego. Adios &lt;3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En serio quién quiere ir a comer helado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Hola mi lindas amigas! Yo puedo ir pero ella no puede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www ¿por qué? ¿cuándo y dónde tú quieres verme?                      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en la mancha en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Ciao nosotros nos vemos ahí       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209680" y="190512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Hola bonitas! Yo tengo hambre. ¿Quién quiere ir a come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73640" y="64008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295280" cy="156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"/>
          <p:cNvPicPr/>
          <p:nvPr/>
        </p:nvPicPr>
        <p:blipFill>
          <a:blip r:embed="rId3"/>
          <a:stretch/>
        </p:blipFill>
        <p:spPr>
          <a:xfrm>
            <a:off x="2209680" y="38098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4"/>
          <a:stretch/>
        </p:blipFill>
        <p:spPr>
          <a:xfrm>
            <a:off x="2133720" y="51814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"/>
          <a:stretch/>
        </p:blipFill>
        <p:spPr>
          <a:xfrm>
            <a:off x="2082960" y="3200400"/>
            <a:ext cx="660240" cy="49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6"/>
          <a:stretch/>
        </p:blipFill>
        <p:spPr>
          <a:xfrm>
            <a:off x="2057400" y="449568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7"/>
          <a:stretch/>
        </p:blipFill>
        <p:spPr>
          <a:xfrm>
            <a:off x="2057400" y="594360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"/>
          <p:cNvPicPr/>
          <p:nvPr/>
        </p:nvPicPr>
        <p:blipFill>
          <a:blip r:embed="rId8"/>
          <a:stretch/>
        </p:blipFill>
        <p:spPr>
          <a:xfrm>
            <a:off x="152280" y="5257800"/>
            <a:ext cx="533520" cy="45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" descr=""/>
          <p:cNvPicPr/>
          <p:nvPr/>
        </p:nvPicPr>
        <p:blipFill>
          <a:blip r:embed="rId9"/>
          <a:stretch/>
        </p:blipFill>
        <p:spPr>
          <a:xfrm>
            <a:off x="762120" y="52578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2" descr=""/>
          <p:cNvPicPr/>
          <p:nvPr/>
        </p:nvPicPr>
        <p:blipFill>
          <a:blip r:embed="rId10"/>
          <a:stretch/>
        </p:blipFill>
        <p:spPr>
          <a:xfrm>
            <a:off x="1447920" y="52578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3" descr=""/>
          <p:cNvPicPr/>
          <p:nvPr/>
        </p:nvPicPr>
        <p:blipFill>
          <a:blip r:embed="rId11"/>
          <a:stretch/>
        </p:blipFill>
        <p:spPr>
          <a:xfrm>
            <a:off x="152280" y="594360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"/>
          <p:cNvPicPr/>
          <p:nvPr/>
        </p:nvPicPr>
        <p:blipFill>
          <a:blip r:embed="rId12"/>
          <a:stretch/>
        </p:blipFill>
        <p:spPr>
          <a:xfrm>
            <a:off x="762120" y="5943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05Z</dcterms:created>
  <dc:creator>FriscoISD</dc:creator>
  <dc:description/>
  <dc:language>en-US</dc:language>
  <cp:lastModifiedBy>NYCDOE</cp:lastModifiedBy>
  <dcterms:modified xsi:type="dcterms:W3CDTF">2012-12-07T14:12:21Z</dcterms:modified>
  <cp:revision>106</cp:revision>
  <dc:subject/>
  <dc:title>Profile</dc:title>
</cp:coreProperties>
</file>